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DCF-9866-4A3E-A7D7-233375EA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F4A-7D4C-495D-ACE2-C8F0323E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FFAC-4DAA-429E-A98A-58A9F128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3CBF-106B-465A-BF43-73DDFF31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5FA4-3183-48BB-B8D1-41BD564D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F215-BBAA-4B72-9CEB-52D92A56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A0FC-7654-490F-A6B3-47FE9F48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1E4-40AA-4B13-9707-BA9F87C9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6753-A9DE-43B1-AD3B-30C4BA8C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F50-582B-4439-95AA-8A871411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511E-82BC-46F6-80F6-31F82E7D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D359-4829-440A-BD7C-D01E4DFB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3C746-35C1-406F-B0BC-9D764FB408E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9920" y="-1191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Scramble for Afric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6400800" cy="664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1728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ting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82520" y="1188720"/>
            <a:ext cx="9896400" cy="619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rlin Conference was held in Berlin, Germany in 18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 Chancellor Otto von Bismarck invited leaders from 13 European nations and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our purposes today, 8 nations are represen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erence was prompted by recent land grabs in Africa by European nations, particularly Belg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sic goal was to work out a peaceful agreement about how Africa would be divided so as to avoid military conflict between the European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frican representatives were inv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lass today, we will be re-creating the colonization of Africa from the beginnings in the 1500's up through the Berlin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rlin Conference (188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93726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0280" y="109440"/>
            <a:ext cx="92534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5040" y="950400"/>
            <a:ext cx="9299520" cy="636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arenR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country card and a colored pencil of your assigned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arenR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bout your country's aims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arenR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placard (name card) for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arenR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your country and your goals to your conferenc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arenR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for further directions (they will follow the “directions and questions” sheet that has been hand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arenR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completing the activity, work together in small groups to answer the questions on the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claims in Africa before the Berlin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7086600" cy="659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-360"/>
            <a:ext cx="907236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t History of Colon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71520" y="4200480"/>
            <a:ext cx="504036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884 and the mid 1900’s, most of Africa was under European colonial r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nations drew most of Africa’s current political boundaries, and often did not take local ethnic divisions into ac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2360" y="1427040"/>
            <a:ext cx="4568760" cy="5459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964120" y="839880"/>
            <a:ext cx="3036960" cy="3276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63640" y="688824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in 19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3:55:09Z</dcterms:created>
  <dc:creator/>
  <dc:description/>
  <dc:language>en-US</dc:language>
  <cp:lastModifiedBy/>
  <cp:revision>1</cp:revision>
  <dc:subject/>
  <dc:title/>
</cp:coreProperties>
</file>